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95D-905C-41CE-9DC5-AFA5C0C8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500-F892-4A72-9936-B50A45F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66C-5EC3-4522-83C6-0DCE0D54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0CE-A59A-405E-8D43-096A2136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3EA-EC9F-4D69-BCA8-7EBB431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78C-46C0-4CA3-ADE0-352E3BF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9B6-C3CD-48A2-8BD7-4C4D198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06E-FC19-477C-B499-501E5CB6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7EF-44F4-452A-843E-6B9E7FA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037-83B7-426C-9B74-DEAE6C6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B96-0F80-4569-821B-BF7D1F0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797-A020-4B6F-ABA3-515DF01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055-7C4A-4179-9C38-F76FDBEF6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바탕"/>
              </a:rPr>
              <a:t>Por/Pa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38960" y="1468440"/>
            <a:ext cx="14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Tim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Perso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Plac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05640" y="14684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988520" y="144792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eadline, Du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3920" y="220968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Instead of, 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244120" y="220968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64320" y="28954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Along,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010120" y="2895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47960" y="3908520"/>
            <a:ext cx="164988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$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By mea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073280" y="3886200"/>
            <a:ext cx="163008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In ord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(infi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j0234324"/>
          <p:cNvPicPr/>
          <p:nvPr/>
        </p:nvPicPr>
        <p:blipFill>
          <a:blip r:embed="rId1"/>
          <a:stretch/>
        </p:blipFill>
        <p:spPr>
          <a:xfrm>
            <a:off x="2933640" y="3402000"/>
            <a:ext cx="3276720" cy="2236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1878840" y="5965920"/>
            <a:ext cx="65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Salimos ma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ñ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a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ara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Puerto Rico.  Viajam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or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avi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ó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Mi esposo y yo vamos a camina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or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la pl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바탕"/>
                <a:ea typeface="바탕"/>
              </a:rPr>
              <a:t>¿</a:t>
            </a:r>
            <a:r>
              <a:rPr b="1" lang="en-US" sz="6000" spc="-1" strike="noStrike">
                <a:solidFill>
                  <a:srgbClr val="333399"/>
                </a:solidFill>
                <a:latin typeface="바탕"/>
              </a:rPr>
              <a:t>Por o Par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7440" y="1523880"/>
            <a:ext cx="804960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Le pagamos cuarenta dólares ____________ los zap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Traigo este libro ____________ Anamar</a:t>
            </a:r>
            <a:r>
              <a:rPr b="1" lang="en-US" sz="2000" spc="-1" strike="noStrike">
                <a:solidFill>
                  <a:srgbClr val="bbe0e3"/>
                </a:solidFill>
                <a:latin typeface="바탕"/>
                <a:ea typeface="바탕"/>
              </a:rPr>
              <a:t>í</a:t>
            </a: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Tenemos que estudiar ____________ la prue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Escribes un ensayo ____________ m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Lo hago ____________ Juanita porque ella no lo puede ha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Salimos a las dos ___________ Canc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Martín es inteligente ____________ un niño de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Miro esta película ____________ 3 h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9.  Viajas a St.Louis  ____________ avión o __________ autobú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575960" y="1468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317760" y="205740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875040" y="264636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622320" y="32767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89880" y="390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112920" y="449568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698640" y="50846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09200" y="5715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104280" y="6345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795280" y="6324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57:34Z</dcterms:created>
  <dc:creator>Schaumburg High School</dc:creator>
  <dc:description/>
  <dc:language>en-US</dc:language>
  <cp:lastModifiedBy>jkaplan</cp:lastModifiedBy>
  <dcterms:modified xsi:type="dcterms:W3CDTF">2011-04-06T12:25:29Z</dcterms:modified>
  <cp:revision>13</cp:revision>
  <dc:subject/>
  <dc:title>Por/Para</dc:title>
</cp:coreProperties>
</file>